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shreg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  <p:custShowLst>
    <p:custShow name="Custom Show 1" id="0">
      <p:sldLst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340-7892-45FD-8111-DDDDA52F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CE6-579A-48CE-865A-3F52F49F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CD6-1929-4BF1-AE70-4D3AC968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9E1-276E-4A1E-BC13-9C194511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79D-3611-4368-BFC0-48222CF2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AA9-1A49-4B8B-804A-55DD5C6D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306-7F7A-43CE-91B4-5D4142C6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F84-B3BD-45F7-AEFA-E4DFE359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87A-E063-4E16-B9A4-45479FF7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F86-21D8-4FCC-A61B-0505DD0B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1EC-FADD-469C-8428-EF4B4DEC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098-C914-456D-B20C-F9117FA9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CF6C-B231-4EB3-B618-BD2A0F79B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3807000" cy="5790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0968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3429000" cy="289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00600" y="4419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4800600" y="5181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4800600" y="5562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4800600" y="4800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4800600" y="5943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219320"/>
            <a:ext cx="3809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o Wants to be 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HOUSAND-AIR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84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1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29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31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34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191120"/>
            <a:ext cx="2133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e has overcome his fear of convi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2670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e has let go of Este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45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How has Pip matured by his 21</a:t>
              </a:r>
              <a:r>
                <a:rPr b="0" lang="en-US" sz="2400" spc="-1" strike="noStrike" baseline="30000">
                  <a:solidFill>
                    <a:srgbClr val="c0c0c0"/>
                  </a:solidFill>
                  <a:latin typeface="Arial"/>
                </a:rPr>
                <a:t>st</a:t>
              </a: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 birthda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49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51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54100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e begins to question whether Miss Havisham is his bene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5486400"/>
            <a:ext cx="2133720" cy="733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e has become more generous and sentim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266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124080" y="2133720"/>
            <a:ext cx="3124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. He has become more generous and sentimen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531880" cy="2139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920320" y="557280"/>
            <a:ext cx="3333960" cy="764280"/>
          </a:xfrm>
          <a:prstGeom prst="rect">
            <a:avLst/>
          </a:prstGeom>
          <a:noFill/>
          <a:ln w="0">
            <a:noFill/>
          </a:ln>
          <a:effectLst>
            <a:outerShdw dist="1144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eat Job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12160" y="512928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ashreg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5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75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3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5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is Pa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is Younger Sibl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9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ich of Pip’s relatives died recentl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73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75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8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is S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All of the Ab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90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124080" y="30481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. His Sis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762120" cy="533520"/>
          </a:xfrm>
          <a:custGeom>
            <a:avLst/>
            <a:gdLst>
              <a:gd name="textAreaLeft" fmla="*/ 41040 w 762120"/>
              <a:gd name="textAreaRight" fmla="*/ 721080 w 762120"/>
              <a:gd name="textAreaTop" fmla="*/ 41040 h 533520"/>
              <a:gd name="textAreaBottom" fmla="*/ 49248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178" y="1671"/>
                </a:lnTo>
                <a:lnTo>
                  <a:pt x="1671" y="1671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178" y="19929"/>
                </a:lnTo>
                <a:lnTo>
                  <a:pt x="29178" y="1671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671" y="19929"/>
                </a:lnTo>
                <a:lnTo>
                  <a:pt x="29178" y="19929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671" y="1671"/>
                </a:lnTo>
                <a:lnTo>
                  <a:pt x="1671" y="19929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97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99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02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Trabb &amp; 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19112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Pocket’s Funeral 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13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ere was Mrs. Joe’s funeral hel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17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19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5562720"/>
            <a:ext cx="2133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iss Havisham’s 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556272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The Gargary’s Backy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34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124080" y="274320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. Trabb &amp; 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41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43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46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  <a:ea typeface="Arial"/>
              </a:rPr>
              <a:t>£7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  <a:ea typeface="Arial"/>
              </a:rPr>
              <a:t>£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57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How much was Pip’s yearly incom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61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63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  <a:ea typeface="Arial"/>
              </a:rPr>
              <a:t>£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  <a:ea typeface="Arial"/>
              </a:rPr>
              <a:t>£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78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124080" y="297180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£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85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87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90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4191120"/>
            <a:ext cx="2133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emmick is a cruel 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4114800"/>
            <a:ext cx="2133720" cy="733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As a businessman he frowns upon helping others financi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01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y does Wemmick tell Pip to not help Herber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05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07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10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5562720"/>
            <a:ext cx="2133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Pip does not have enough mo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556272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e believes Herbert will waste the mo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222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124080" y="2133720"/>
            <a:ext cx="312444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c0c0"/>
                </a:solidFill>
                <a:latin typeface="Times New Roman"/>
              </a:rPr>
              <a:t>B. As a businessman he frowns upon helping others financi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3:42:16Z</dcterms:created>
  <dc:creator>Tony Baldwin</dc:creator>
  <dc:description/>
  <dc:language>en-US</dc:language>
  <cp:lastModifiedBy>Ben McCartney</cp:lastModifiedBy>
  <cp:lastPrinted>2000-05-03T23:45:17Z</cp:lastPrinted>
  <dcterms:modified xsi:type="dcterms:W3CDTF">2009-03-02T01:03:54Z</dcterms:modified>
  <cp:revision>37</cp:revision>
  <dc:subject>Blank template for teachers</dc:subject>
  <dc:title>Who wants to be a millionaire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T. Baldwin</vt:lpwstr>
  </property>
  <property fmtid="{D5CDD505-2E9C-101B-9397-08002B2CF9AE}" pid="3" name="Client">
    <vt:lpwstr>Novell 3.31</vt:lpwstr>
  </property>
  <property fmtid="{D5CDD505-2E9C-101B-9397-08002B2CF9AE}" pid="4" name="Date completed">
    <vt:filetime>2001-12-06T08:00:00Z</vt:filetime>
  </property>
  <property fmtid="{D5CDD505-2E9C-101B-9397-08002B2CF9AE}" pid="5" name="Department">
    <vt:lpwstr>Technology services</vt:lpwstr>
  </property>
  <property fmtid="{D5CDD505-2E9C-101B-9397-08002B2CF9AE}" pid="6" name="Destination">
    <vt:lpwstr>Districtwide</vt:lpwstr>
  </property>
  <property fmtid="{D5CDD505-2E9C-101B-9397-08002B2CF9AE}" pid="7" name="Disposition">
    <vt:lpwstr>Finished</vt:lpwstr>
  </property>
  <property fmtid="{D5CDD505-2E9C-101B-9397-08002B2CF9AE}" pid="8" name="Division">
    <vt:lpwstr>N/A</vt:lpwstr>
  </property>
  <property fmtid="{D5CDD505-2E9C-101B-9397-08002B2CF9AE}" pid="9" name="Document number">
    <vt:r8>12010001</vt:r8>
  </property>
  <property fmtid="{D5CDD505-2E9C-101B-9397-08002B2CF9AE}" pid="10" name="Editor">
    <vt:lpwstr>T. Baldwin</vt:lpwstr>
  </property>
  <property fmtid="{D5CDD505-2E9C-101B-9397-08002B2CF9AE}" pid="11" name="Owner">
    <vt:lpwstr>T. Baldwin</vt:lpwstr>
  </property>
  <property fmtid="{D5CDD505-2E9C-101B-9397-08002B2CF9AE}" pid="12" name="Project">
    <vt:lpwstr>Tech. Support Materals</vt:lpwstr>
  </property>
  <property fmtid="{D5CDD505-2E9C-101B-9397-08002B2CF9AE}" pid="13" name="Telephone number">
    <vt:lpwstr>530.378.7025</vt:lpwstr>
  </property>
  <property fmtid="{D5CDD505-2E9C-101B-9397-08002B2CF9AE}" pid="14" name="Typist">
    <vt:lpwstr>T. Baldwin</vt:lpwstr>
  </property>
</Properties>
</file>